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E9C-D9E2-494D-9501-F9F8283D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94C-835B-4E88-964B-03CE900A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F59-05C2-4755-B2B2-94C7548C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F36-97AD-4CCC-BF91-1643CE57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92E-1062-48CF-8D2C-439EF991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08E-91D0-4767-A556-77A531E9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AAF-D97F-4A8F-ACF6-98BE3597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B2A-7100-4357-9C5D-A6866A25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F0D-CA33-4ADB-AF2C-215071CF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BC5-F189-4BC3-9F80-3075FB7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3C4-27B5-4A9F-9251-B24A6828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1FF-00F9-4F16-A894-F257C67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98A-3D51-4319-8A23-227F91E75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eaea"/>
                </a:solidFill>
                <a:latin typeface="Arial"/>
              </a:rPr>
              <a:t>LOS LEON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989000"/>
            <a:ext cx="7272360" cy="4176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272360" cy="4181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456000" cy="2737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3645000"/>
            <a:ext cx="3456000" cy="276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35640" y="62064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- SE ALIMENTAN DE ANIMALES INCLUSO MAYORES QUE EL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429264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- SU PLATO FAVORITO SON LOS GRANDES HERBÍV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UALMENTE LOS LEONES SON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IMALES PROTEG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24204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EL REINO ANIMAL, EL LEÓN PERTENECE AL GRUPO DE LOS FE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04000" y="1557360"/>
            <a:ext cx="1913040" cy="25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223200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8360" y="4076640"/>
            <a:ext cx="2374920" cy="203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2376720" cy="196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588000" y="4221000"/>
            <a:ext cx="2233800" cy="17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-56880" y="1836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645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L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3645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GUE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7340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LEOPA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1280" y="57340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AN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5516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68360" y="1557360"/>
            <a:ext cx="2374920" cy="2303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3429000"/>
            <a:ext cx="15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I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5183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HAY 2 TIPOS DE LE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3672000" cy="381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195720" cy="388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5661000"/>
            <a:ext cx="3672000" cy="5032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573408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ÓN ASIÁT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5734080"/>
            <a:ext cx="3240360" cy="398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ÓN AFRI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Verdana"/>
              </a:rPr>
              <a:t>¿CÓMO SON LOS LE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1.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LARGA MELENA</a:t>
            </a: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3240360" cy="388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311640" cy="381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788000" y="567072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2.      MANDÍBULA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PODE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1557360"/>
            <a:ext cx="0" cy="47512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743280" cy="482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32108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04640"/>
            <a:ext cx="43210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3. COLUMNA VERTEBRAL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5300640"/>
            <a:ext cx="3744720" cy="95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BUENA V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(INCLUSO EN LA    OSCUR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Verdana"/>
              </a:rPr>
              <a:t>5.ENORMES Y MUSCULOSAS P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Verdana"/>
              </a:rPr>
              <a:t>6. LARGA 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16360" y="981000"/>
            <a:ext cx="395604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Verdana"/>
              </a:rPr>
              <a:t>¿CÓMO VIV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80000" cy="3095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4248000" cy="3458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03640" y="5229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VIVEN EN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628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NO LES GUSTA VIVIR   S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Verdana"/>
              </a:rPr>
              <a:t>LOS MACHOS Y LAS HEMBRAS TIENEN DISTINTAS FUN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3743280" cy="335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543200" cy="4279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630864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 MACHOS DEFIENDEN LA MA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206064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HEMBRAS CAZAN Y CUIDAN DE LOS CACHOR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743280" cy="266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27640" y="2421000"/>
            <a:ext cx="43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LOS CACHORROS SON MUY JUGUE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356000" y="3860640"/>
            <a:ext cx="4032360" cy="2533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8360" y="4869000"/>
            <a:ext cx="31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A LOS 2 AÑOS YA PUEDEN CAZAR S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21:14:37Z</dcterms:created>
  <dc:creator>Juan Mari</dc:creator>
  <dc:description/>
  <dc:language>en-US</dc:language>
  <cp:lastModifiedBy>Juan Mari</cp:lastModifiedBy>
  <dcterms:modified xsi:type="dcterms:W3CDTF">2010-05-03T18:05:16Z</dcterms:modified>
  <cp:revision>27</cp:revision>
  <dc:subject/>
  <dc:title>LOS LEONES</dc:title>
</cp:coreProperties>
</file>